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media/image50.wmf" ContentType="image/x-wmf"/>
  <Override PartName="/ppt/media/image46.wmf" ContentType="image/x-wmf"/>
  <Override PartName="/ppt/media/ricochet.wav" ContentType="audio/x-wav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28.wmf" ContentType="image/x-wmf"/>
  <Override PartName="/ppt/media/image68.gif" ContentType="image/gif"/>
  <Override PartName="/ppt/media/image10.wmf" ContentType="image/x-wmf"/>
  <Override PartName="/ppt/media/image47.wmf" ContentType="image/x-wmf"/>
  <Override PartName="/ppt/media/image12.wmf" ContentType="image/x-wmf"/>
  <Override PartName="/ppt/media/image51.wmf" ContentType="image/x-wmf"/>
  <Override PartName="/ppt/media/image52.wmf" ContentType="image/x-wmf"/>
  <Override PartName="/ppt/media/image55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57.wmf" ContentType="image/x-wmf"/>
  <Override PartName="/ppt/media/image60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76.wmf" ContentType="image/x-wmf"/>
  <Override PartName="/ppt/media/EXPLODE.WAV" ContentType="audio/x-wav"/>
  <Override PartName="/ppt/media/image64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71.wmf" ContentType="image/x-wmf"/>
  <Override PartName="/ppt/media/image69.wmf" ContentType="image/x-wmf"/>
  <Override PartName="/ppt/media/image32.wmf" ContentType="image/x-wmf"/>
  <Override PartName="/ppt/media/image53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image65.wmf" ContentType="image/x-wmf"/>
  <Override PartName="/ppt/media/image67.wmf" ContentType="image/x-wmf"/>
  <Override PartName="/ppt/media/image66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driveby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54.gif" ContentType="image/gif"/>
  <Override PartName="/ppt/media/image14.wmf" ContentType="image/x-wmf"/>
  <Override PartName="/ppt/media/LASER.WAV" ContentType="audio/x-wav"/>
  <Override PartName="/ppt/media/applause.wav" ContentType="audio/x-wav"/>
  <Override PartName="/ppt/media/image6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D58-E4FE-4121-83F8-A6C5EE52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C12-CB25-4D62-85A5-3424740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A98-4CE6-46DC-A2F6-78C34F1C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4DD-5C90-4EE2-9294-68F7F0F1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91F-66CB-420D-A851-A4EABB99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CE0-9BC9-492C-AC33-B03552F6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D7D-FDAB-4F79-A369-54864BF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F64-AEBE-463B-82C8-26A49AC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363-AD39-480A-9F52-ACA52EAC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432-4EE8-4F0D-AA3E-97EA651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AA8-F48D-42A3-B7AC-5AF00E2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0BE-DF60-4BE2-9ADB-0EF41D2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2D9-E8EA-435B-80DA-889353325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audio" Target="../media/WHOOSH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driveby.wav"/><Relationship Id="rId41" Type="http://schemas.openxmlformats.org/officeDocument/2006/relationships/audio" Target="../media/driveby.wav"/><Relationship Id="rId42" Type="http://schemas.openxmlformats.org/officeDocument/2006/relationships/audio" Target="../media/applause.wav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audio" Target="../media/CAMERA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driveby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driveby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driveby.wav"/><Relationship Id="rId39" Type="http://schemas.openxmlformats.org/officeDocument/2006/relationships/audio" Target="../media/driveby.wav"/><Relationship Id="rId40" Type="http://schemas.openxmlformats.org/officeDocument/2006/relationships/audio" Target="../media/applause.wav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driveby.wav"/><Relationship Id="rId35" Type="http://schemas.openxmlformats.org/officeDocument/2006/relationships/audio" Target="../media/driveby.wav"/><Relationship Id="rId36" Type="http://schemas.openxmlformats.org/officeDocument/2006/relationships/audio" Target="../media/applause.wav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driveby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driveby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CAMERA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driveby.wav"/><Relationship Id="rId42" Type="http://schemas.openxmlformats.org/officeDocument/2006/relationships/audio" Target="../media/driveby.wav"/><Relationship Id="rId43" Type="http://schemas.openxmlformats.org/officeDocument/2006/relationships/audio" Target="../media/applause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5.wmf"/><Relationship Id="rId27" Type="http://schemas.openxmlformats.org/officeDocument/2006/relationships/audio" Target="../media/CAMERA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gunshot.wav"/><Relationship Id="rId43" Type="http://schemas.openxmlformats.org/officeDocument/2006/relationships/audio" Target="../media/ricochet.wav"/><Relationship Id="rId44" Type="http://schemas.openxmlformats.org/officeDocument/2006/relationships/audio" Target="../media/ricoche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driveby.wav"/><Relationship Id="rId48" Type="http://schemas.openxmlformats.org/officeDocument/2006/relationships/audio" Target="../media/applause.wav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driveby.wav"/><Relationship Id="rId41" Type="http://schemas.openxmlformats.org/officeDocument/2006/relationships/audio" Target="../media/driveby.wav"/><Relationship Id="rId42" Type="http://schemas.openxmlformats.org/officeDocument/2006/relationships/audio" Target="../media/applause.wav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4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7.wmf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AMERA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WHOOSH.WAV"/><Relationship Id="rId42" Type="http://schemas.openxmlformats.org/officeDocument/2006/relationships/audio" Target="../media/WHOOSH.WAV"/><Relationship Id="rId43" Type="http://schemas.openxmlformats.org/officeDocument/2006/relationships/audio" Target="../media/LASER.WAV"/><Relationship Id="rId44" Type="http://schemas.openxmlformats.org/officeDocument/2006/relationships/audio" Target="../media/WHOOSH.WAV"/><Relationship Id="rId45" Type="http://schemas.openxmlformats.org/officeDocument/2006/relationships/audio" Target="../media/LASER.WAV"/><Relationship Id="rId46" Type="http://schemas.openxmlformats.org/officeDocument/2006/relationships/audio" Target="../media/WHOOSH.WAV"/><Relationship Id="rId47" Type="http://schemas.openxmlformats.org/officeDocument/2006/relationships/audio" Target="../media/LASER.WAV"/><Relationship Id="rId48" Type="http://schemas.openxmlformats.org/officeDocument/2006/relationships/audio" Target="../media/WHOOSH.WAV"/><Relationship Id="rId49" Type="http://schemas.openxmlformats.org/officeDocument/2006/relationships/audio" Target="../media/CAMERA.WAV"/><Relationship Id="rId50" Type="http://schemas.openxmlformats.org/officeDocument/2006/relationships/audio" Target="../media/CAMERA.WAV"/><Relationship Id="rId51" Type="http://schemas.openxmlformats.org/officeDocument/2006/relationships/audio" Target="../media/CAMERA.WAV"/><Relationship Id="rId52" Type="http://schemas.openxmlformats.org/officeDocument/2006/relationships/audio" Target="../media/CAMERA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driveby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EXPLODE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carbrake.wav"/><Relationship Id="rId6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2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76.wmf"/><Relationship Id="rId36" Type="http://schemas.openxmlformats.org/officeDocument/2006/relationships/audio" Target="../media/CHIMES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WHOOSH.WAV"/><Relationship Id="rId40" Type="http://schemas.openxmlformats.org/officeDocument/2006/relationships/audio" Target="../media/WHOOSH.WAV"/><Relationship Id="rId41" Type="http://schemas.openxmlformats.org/officeDocument/2006/relationships/audio" Target="../media/LASER.WAV"/><Relationship Id="rId42" Type="http://schemas.openxmlformats.org/officeDocument/2006/relationships/audio" Target="../media/WHOOSH.WAV"/><Relationship Id="rId43" Type="http://schemas.openxmlformats.org/officeDocument/2006/relationships/audio" Target="../media/LASER.WAV"/><Relationship Id="rId44" Type="http://schemas.openxmlformats.org/officeDocument/2006/relationships/audio" Target="../media/WHOOSH.WAV"/><Relationship Id="rId45" Type="http://schemas.openxmlformats.org/officeDocument/2006/relationships/audio" Target="../media/LASER.WAV"/><Relationship Id="rId46" Type="http://schemas.openxmlformats.org/officeDocument/2006/relationships/audio" Target="../media/WHOOSH.WAV"/><Relationship Id="rId47" Type="http://schemas.openxmlformats.org/officeDocument/2006/relationships/audio" Target="../media/CAMERA.WAV"/><Relationship Id="rId48" Type="http://schemas.openxmlformats.org/officeDocument/2006/relationships/audio" Target="../media/CAMERA.WAV"/><Relationship Id="rId49" Type="http://schemas.openxmlformats.org/officeDocument/2006/relationships/audio" Target="../media/CAMERA.WAV"/><Relationship Id="rId50" Type="http://schemas.openxmlformats.org/officeDocument/2006/relationships/audio" Target="../media/CAMERA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driveby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driveby.wav"/><Relationship Id="rId57" Type="http://schemas.openxmlformats.org/officeDocument/2006/relationships/audio" Target="../media/LASER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EXPLODE.WAV"/><Relationship Id="rId61" Type="http://schemas.openxmlformats.org/officeDocument/2006/relationships/audio" Target="../media/EXPLODE.WAV"/><Relationship Id="rId62" Type="http://schemas.openxmlformats.org/officeDocument/2006/relationships/audio" Target="../media/EXPLODE.WAV"/><Relationship Id="rId63" Type="http://schemas.openxmlformats.org/officeDocument/2006/relationships/audio" Target="../media/carbrake.wav"/><Relationship Id="rId6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5812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19320"/>
          <a:ext cx="335592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33559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809720" y="2971800"/>
          <a:ext cx="4669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9720" y="297180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28800" y="3809880"/>
          <a:ext cx="5158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09880"/>
                    <a:ext cx="5158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105000" y="2971800"/>
          <a:ext cx="46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05000" y="297180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71600" y="2971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365760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365760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895480" y="29718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752480"/>
          <a:ext cx="830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175248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2362320"/>
          <a:ext cx="825480" cy="77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2362320"/>
                    <a:ext cx="82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819520" y="175248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17524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44792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0" y="2362320"/>
          <a:ext cx="165096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23623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0" y="990720"/>
                <a:ext cx="4037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952880" y="1828800"/>
          <a:ext cx="342900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1828800"/>
                    <a:ext cx="34290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943600" y="2590920"/>
          <a:ext cx="228600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2590920"/>
                    <a:ext cx="22860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229600" y="274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381880" y="25146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35812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8440" y="1289160"/>
          <a:ext cx="321480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289160"/>
                    <a:ext cx="3214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28640" y="2971800"/>
          <a:ext cx="8287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29718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057400" y="3809880"/>
          <a:ext cx="61920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809880"/>
                    <a:ext cx="619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24280" y="2971800"/>
          <a:ext cx="830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4280" y="29718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371600" y="2971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90920" y="3733920"/>
          <a:ext cx="92844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733920"/>
                    <a:ext cx="928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048120" y="297180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752480"/>
          <a:ext cx="8827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17524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371600" y="2362320"/>
          <a:ext cx="129060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2362320"/>
                    <a:ext cx="1290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793960" y="1752480"/>
          <a:ext cx="8827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93960" y="17524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14400" y="236232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2362320"/>
          <a:ext cx="134136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9092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4120" y="1066680"/>
                <a:ext cx="3152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5791320" y="1905120"/>
          <a:ext cx="2452680" cy="68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1905120"/>
                    <a:ext cx="24526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705720" y="2666880"/>
          <a:ext cx="1371600" cy="68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5720" y="2666880"/>
                    <a:ext cx="1371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53280" y="28195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305920" y="25146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43434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066680"/>
          <a:ext cx="28828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2882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057400" y="4572000"/>
          <a:ext cx="5158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57200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486160" y="4495680"/>
          <a:ext cx="1290600" cy="6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6160" y="44956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28800" y="2209680"/>
          <a:ext cx="7794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2209680"/>
                    <a:ext cx="779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590920" y="2209680"/>
          <a:ext cx="77940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2209680"/>
                    <a:ext cx="779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281952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562720" y="990720"/>
          <a:ext cx="2851200" cy="17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990720"/>
                    <a:ext cx="285120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19920" y="2895480"/>
          <a:ext cx="233820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895480"/>
                    <a:ext cx="2338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77080" y="3962520"/>
          <a:ext cx="148572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77080" y="3962520"/>
                    <a:ext cx="1485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381880" y="411480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534520" y="38098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3048120"/>
                <a:ext cx="960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8120" y="3048120"/>
                <a:ext cx="96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1828800" y="2666880"/>
          <a:ext cx="619200" cy="160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28800" y="2666880"/>
                    <a:ext cx="6192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489040" y="3124080"/>
          <a:ext cx="981360" cy="621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89040" y="3124080"/>
                    <a:ext cx="9813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43434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8840" y="1360440"/>
          <a:ext cx="3970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360440"/>
                    <a:ext cx="3970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514600" y="3733920"/>
          <a:ext cx="465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465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43200" y="4572000"/>
          <a:ext cx="5158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57200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33920" y="3733920"/>
          <a:ext cx="4665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7339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362320" y="37339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00400" y="4495680"/>
          <a:ext cx="981000" cy="6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4495680"/>
                    <a:ext cx="9810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1280" y="37339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514600"/>
          <a:ext cx="830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5146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124080"/>
          <a:ext cx="774720" cy="62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3124080"/>
                    <a:ext cx="774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352680" y="2514600"/>
          <a:ext cx="8305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25146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447920" y="31240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24080" y="3124080"/>
          <a:ext cx="123840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24080" y="3124080"/>
                    <a:ext cx="12384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2000" y="1371600"/>
                <a:ext cx="4572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5486400" y="2286000"/>
          <a:ext cx="342108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2286000"/>
                    <a:ext cx="34210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48440" y="3352680"/>
          <a:ext cx="1600200" cy="68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48440" y="3352680"/>
                    <a:ext cx="1600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610480" y="35053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763120" y="32004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1981080"/>
          <a:ext cx="236376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28800" y="1981080"/>
                    <a:ext cx="23637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05120" y="50292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8600" y="1219320"/>
                <a:ext cx="4032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2111400" y="4419720"/>
          <a:ext cx="7761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44197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590920" y="5181480"/>
          <a:ext cx="465120" cy="6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181480"/>
                    <a:ext cx="465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406680" y="4419720"/>
          <a:ext cx="7779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6680" y="441972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971800" y="5257800"/>
          <a:ext cx="1341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25780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505320" y="44197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00200" y="3124080"/>
          <a:ext cx="8301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124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209680" y="3733920"/>
          <a:ext cx="878040" cy="67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3733920"/>
                    <a:ext cx="8780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320040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32004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371600" y="38098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21120" y="3809880"/>
          <a:ext cx="118728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21120" y="3809880"/>
                    <a:ext cx="11872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24280" y="1143000"/>
                <a:ext cx="4114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356080" y="1925640"/>
                <a:ext cx="33022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7048440" y="2895480"/>
          <a:ext cx="160020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8440" y="2895480"/>
                    <a:ext cx="1600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8610480" y="30481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763120" y="27432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371600" y="1905120"/>
          <a:ext cx="278928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1905120"/>
                    <a:ext cx="27892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057400" y="2590920"/>
          <a:ext cx="203184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7400" y="2590920"/>
                    <a:ext cx="20318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1320" y="2044800"/>
          <a:ext cx="628560" cy="627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91320" y="2044800"/>
                    <a:ext cx="628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526080" y="2043000"/>
          <a:ext cx="628920" cy="627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526080" y="2043000"/>
                    <a:ext cx="6289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76240" y="4452840"/>
            <a:ext cx="2743200" cy="1676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1274760"/>
                <a:ext cx="4586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959120" y="3733920"/>
          <a:ext cx="7761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37339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309760" y="5062680"/>
          <a:ext cx="46512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9760" y="506268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352680" y="3733920"/>
          <a:ext cx="7779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73392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676520" y="37339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743200" y="4495680"/>
          <a:ext cx="1084320" cy="16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495680"/>
                    <a:ext cx="10843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28800" y="2514600"/>
          <a:ext cx="11415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51460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828800" y="3124080"/>
          <a:ext cx="103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124080"/>
                    <a:ext cx="103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968560" y="2514600"/>
          <a:ext cx="11415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68560" y="251460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19320" y="31240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817720" y="3124080"/>
          <a:ext cx="129060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7720" y="31240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02200" y="844560"/>
                <a:ext cx="4141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41920" y="2592360"/>
                <a:ext cx="273996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"/>
          <p:cNvGraphicFramePr/>
          <p:nvPr/>
        </p:nvGraphicFramePr>
        <p:xfrm>
          <a:off x="6686640" y="4648320"/>
          <a:ext cx="148572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86640" y="4648320"/>
                    <a:ext cx="1485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191440" y="480060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344080" y="44956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14400" y="1981080"/>
          <a:ext cx="1986120" cy="567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981080"/>
                    <a:ext cx="19861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819520" y="1981080"/>
          <a:ext cx="1181160" cy="5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1981080"/>
                    <a:ext cx="11811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499080" y="1249200"/>
            <a:ext cx="2644920" cy="1587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3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318960" y="4522680"/>
          <a:ext cx="4492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4522680"/>
                    <a:ext cx="4492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990720"/>
            <a:ext cx="714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A parking garage charges $3 plus $1.50 per hour. You have $12 to spend for parking. Write and solve an equation to find the number of hours that you can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nitial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3505320"/>
            <a:ext cx="1523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#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715000" y="365616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6561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248520" y="35053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00200" y="4419720"/>
          <a:ext cx="55404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419720"/>
                    <a:ext cx="5540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581280" y="56674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The longest you can park is 6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660760" y="2622600"/>
          <a:ext cx="6208560" cy="71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60760" y="2622600"/>
                    <a:ext cx="6208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057400" y="4492800"/>
          <a:ext cx="160668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4492800"/>
                    <a:ext cx="1606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6423480" y="9874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4160" y="6825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3276720"/>
            <a:ext cx="144792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Rate fo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733920" y="3581280"/>
          <a:ext cx="492120" cy="5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23880" y="4522680"/>
          <a:ext cx="1147680" cy="60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3880" y="4522680"/>
                    <a:ext cx="11476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219320" y="6245280"/>
          <a:ext cx="77616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19320" y="624528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876920" y="4572000"/>
          <a:ext cx="517320" cy="673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76920" y="4572000"/>
                    <a:ext cx="517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612880" y="6245280"/>
          <a:ext cx="777960" cy="61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12880" y="62452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93672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34120" y="4114800"/>
          <a:ext cx="1393560" cy="160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34120" y="4114800"/>
                    <a:ext cx="13935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6128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5029200"/>
          <a:ext cx="8301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063800" y="5610240"/>
          <a:ext cx="1083960" cy="674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63800" y="5610240"/>
                    <a:ext cx="10839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6880" y="5029200"/>
          <a:ext cx="830520" cy="612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666880" y="50292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79520" y="563580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32000" y="5635800"/>
          <a:ext cx="981000" cy="620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232000" y="5635800"/>
                    <a:ext cx="981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615000" y="4572000"/>
          <a:ext cx="2529000" cy="673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15000" y="4572000"/>
                    <a:ext cx="2529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4840" y="274680"/>
            <a:ext cx="2508120" cy="2508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8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18960" y="4522680"/>
          <a:ext cx="4492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4522680"/>
                    <a:ext cx="4492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0" y="990720"/>
            <a:ext cx="706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8. As a lifeguard, you can earn $6 per day plus $2.50 per hour. Write and solve an equation to find how many hours you must work to earn $16 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ays W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3505320"/>
            <a:ext cx="1523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#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638680" y="3657600"/>
          <a:ext cx="60984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38680" y="3657600"/>
                    <a:ext cx="6098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6095880" y="3505320"/>
            <a:ext cx="2819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600200" y="4419720"/>
          <a:ext cx="55404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419720"/>
                    <a:ext cx="5540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114800" y="5667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must work at least 4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757600" y="2673360"/>
          <a:ext cx="6386400" cy="71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7600" y="2673360"/>
                    <a:ext cx="6386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084400" y="4492800"/>
          <a:ext cx="155088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84400" y="4492800"/>
                    <a:ext cx="1550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514880" y="14065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3276720"/>
            <a:ext cx="144792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Rate fo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733920" y="3581280"/>
          <a:ext cx="492120" cy="5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98320" y="4522680"/>
          <a:ext cx="1198800" cy="60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8320" y="4522680"/>
                    <a:ext cx="1198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166760" y="6245280"/>
          <a:ext cx="88128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66760" y="62452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724280" y="4572000"/>
          <a:ext cx="517680" cy="673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724280" y="4572000"/>
                    <a:ext cx="5176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60680" y="6245280"/>
          <a:ext cx="882720" cy="61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560680" y="62452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93672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105520" y="4114800"/>
          <a:ext cx="1652400" cy="160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105520" y="4114800"/>
                    <a:ext cx="16524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6128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5029200"/>
          <a:ext cx="8301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012680" y="5610240"/>
          <a:ext cx="1187640" cy="674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12680" y="5610240"/>
                    <a:ext cx="11876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43200" y="5029200"/>
          <a:ext cx="830160" cy="612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74320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479520" y="563580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133720" y="5638680"/>
          <a:ext cx="1238040" cy="6210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133720" y="5638680"/>
                    <a:ext cx="1238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615000" y="4572000"/>
          <a:ext cx="2529000" cy="673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15000" y="4572000"/>
                    <a:ext cx="2529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0T13:41:59Z</dcterms:modified>
  <cp:revision>158</cp:revision>
  <dc:subject/>
  <dc:title>No Slide Title</dc:title>
</cp:coreProperties>
</file>